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FD1-42CB-4C31-B7F1-CF30F76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D7-DA92-45FA-8753-B003CB4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696-C61D-4046-81F8-D773BC7E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9DA-3549-4910-B612-0EE61CB5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F2C-1C5E-4205-8F66-A7E5981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78B-EE84-44B0-8181-ACF2BE0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E43-169A-4D37-9BBB-F36D95A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CB3-A305-4278-A47D-3D1C92F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2C8-4969-4268-A7C7-E370386D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047-8717-4F9C-9426-7526ADE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812-B526-4B33-9F27-F7A8093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CB2-22BF-4B64-ADA8-0D540C3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059-C728-46A8-B439-20ABF9AC2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304920"/>
            <a:ext cx="228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ÑO 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838080"/>
            <a:ext cx="3095640" cy="464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1066680"/>
            <a:ext cx="3132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ESTADÍ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á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celo Loza Ceval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NÁLISIS DE SISTEMAS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lanca Alma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NOR: Armando Gallardo DICEN: Carlos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SUR:  Luis Díaz                 DILIT: Luis Murillo</a:t>
            </a: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Se incluye además al personal que realiza el operativo de campo, crítica y codificación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571500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52280"/>
            <a:ext cx="4464000" cy="63248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57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828800"/>
            <a:ext cx="19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laudio Gallardo Le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447920"/>
            <a:ext cx="2051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Zanafria Niquing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2209680"/>
            <a:ext cx="19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3048120"/>
            <a:ext cx="230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Hugo Freire Alme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505320"/>
            <a:ext cx="434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PRODUCCIÓN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ESTADÍSTICA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590920"/>
            <a:ext cx="426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uth Puyol Cord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HUMANOS  Y SERVICIOS 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58672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drigo Segarra Aguirr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038480"/>
            <a:ext cx="4267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ulio Ortega Andrad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RODUCCIÓN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410080"/>
            <a:ext cx="205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Castro Carr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495680"/>
            <a:ext cx="426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DESARROLLO 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685800"/>
            <a:ext cx="266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Byron Villacís Cru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066680"/>
            <a:ext cx="4114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vid Vera Alcí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UB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vid Manosalvas Vinue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0292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8672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rge García Gue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156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72200" y="5791320"/>
            <a:ext cx="218124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45720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UNICACIÓN SOCIAL Y RELACIONES PÚ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loza</cp:lastModifiedBy>
  <cp:lastPrinted>2000-09-19T06:11:10Z</cp:lastPrinted>
  <dcterms:modified xsi:type="dcterms:W3CDTF">2008-03-19T14:29:06Z</dcterms:modified>
  <cp:revision>91</cp:revision>
  <dc:subject/>
  <dc:title>Sin título de diapositiva</dc:title>
</cp:coreProperties>
</file>